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303-9F60-4849-ABF3-3CA0B518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E6A-764C-474A-BB1C-44E34E17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B73-2642-4519-A6FC-190BFD64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B96-B3F4-4DDC-9829-241DCF73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CE21-C849-4CE5-9D4E-FD565C1B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FDB8-1CD7-4CA9-958D-4345BC1A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C2F6-2B5D-4838-82CD-D98379C7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EABF-E827-4A5C-9989-BEBB212A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2AB-A7C1-4C16-9D68-1350FB1C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5D74-54AC-4216-9062-E59BC15F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477E-8DA4-4574-9FF1-6CFFC865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54F-6643-4F0C-8357-0DC92AC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36E9-AE01-4629-A7D7-2E51E3C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A2B2-3AA6-47A5-9DB4-9BDD103B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73CC-6CEF-4C35-8762-17B6B8CD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2A08-202E-41C4-A312-0858022A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B268-30CB-499A-9175-CBBFEF48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362-FF00-46C7-8B87-432D91C0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870-2B31-4CB2-BE2C-A7039D0E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CB7-F428-4003-BAAC-8E014432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19A-E889-4A8E-8F04-10CC77F3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633-5949-4B88-9179-93378AF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88B-A032-49F9-B287-17A21E38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3E8-B556-4851-96DD-BD8D18CB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BFEA-C0BC-483F-BFBB-996F15D4B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129B-DA06-4283-AAD6-B3C1C1465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981080"/>
            <a:ext cx="8218440" cy="204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ML Diagram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tatic Analysis Mod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8080" y="4044600"/>
            <a:ext cx="6387840" cy="173988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Dr. Hany H. 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. of Computer Science and Electrical Engineering, W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Package diagram"/>
          <p:cNvPicPr/>
          <p:nvPr/>
        </p:nvPicPr>
        <p:blipFill>
          <a:blip r:embed="rId1"/>
          <a:stretch/>
        </p:blipFill>
        <p:spPr>
          <a:xfrm>
            <a:off x="990720" y="990720"/>
            <a:ext cx="7486560" cy="5276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66680" y="142920"/>
            <a:ext cx="44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System pack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alysis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analysis level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agrams are refined by adding relationships between clas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s and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ing how objects of the static view are used to realize use c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sequence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is placed on distributing behavior, resolving software interfaces, and identifying generalization relationships that will maximize the effectiveness of the 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 Diagram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classes, attributes of each class, and operations of each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, their attributes and methods are specified based on the objects needed to realized use case and interfaces to externa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3200400" cy="1847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838840" y="4038480"/>
            <a:ext cx="3305160" cy="2238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734280" y="3962520"/>
            <a:ext cx="212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p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efin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Class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2209680"/>
            <a:ext cx="1523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209680"/>
            <a:ext cx="190476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267080"/>
            <a:ext cx="1523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4267080"/>
            <a:ext cx="190512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86000" y="45716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438280" y="4724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285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5410080"/>
            <a:ext cx="40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ion (hollow diamond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 (solid diam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114800"/>
            <a:ext cx="19051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2286000"/>
            <a:ext cx="15242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8660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200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010280" y="3200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3341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Between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between classes are generally shown as solid lines connecting the associated clas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table exceptions to the solid line rule are the use of dashed lines to depic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cies as special case of associa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, structural relationship between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, Employee works in Depart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ity of Associ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how many instances of one class may relate to a single association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 has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to-many association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 manages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 association (0, 1, or many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Customer ownsCredit Card instance of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to-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-to-Many association –Course has Student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attends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cy: A Special Case of Asso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19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2057400"/>
          <a:ext cx="693396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693396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09120" y="4800600"/>
            <a:ext cx="791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Manager (Client class) depends on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by the other three serve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1280" y="21240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gregation Re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hollow diamond is attached to the end of the path to indicate aggregation. The diamond is attached to the class that is the aggregate. Aggregation provides a definitive conceptual whole part relation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Recursive class diagram"/>
          <p:cNvPicPr/>
          <p:nvPr/>
        </p:nvPicPr>
        <p:blipFill>
          <a:blip r:embed="rId1"/>
          <a:stretch/>
        </p:blipFill>
        <p:spPr>
          <a:xfrm>
            <a:off x="1600200" y="2971800"/>
            <a:ext cx="6343560" cy="240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14600" y="6858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sition: A Special Case of Aggre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 is shown as a solid filled diamond, with the diamond attached to the class that is the composite. Composition is a form of aggregation that requires coincident lifetime of the part with the whole and singular ownership; i.e. the part is owned by only one whole and is deleted when the whole is dele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76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4800600"/>
          <a:ext cx="769608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800600"/>
                    <a:ext cx="76960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ments Model and the Analysi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ic Analysis Model – The Analysis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eptual Level - Identifying the Classes of Objects (Step 6 Requirements Elicitation Process: Identify Initial Analysis Ob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alysis Level –  Identifying Class relationships, class attributes, and class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15328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 vs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096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/Specialization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 is shown as a solid-line arrow from the child (the more specific element) to the parent (the more general element) this type of relationship is also called inheri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used to define class hierarchies based on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/Specialization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4648320"/>
            <a:ext cx="266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UML class diagram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1981080"/>
          <a:ext cx="8838360" cy="4113360"/>
        </p:xfrm>
        <a:graphic>
          <a:graphicData uri="http://schemas.openxmlformats.org/drawingml/2006/table">
            <a:tbl>
              <a:tblPr/>
              <a:tblGrid>
                <a:gridCol w="1787760"/>
                <a:gridCol w="70506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Multiplic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0.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zero or one instance. The notation </a:t>
                      </a:r>
                      <a:r>
                        <a:rPr b="1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n . . m</a:t>
                      </a: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indicates </a:t>
                      </a:r>
                      <a:r>
                        <a:rPr b="1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to</a:t>
                      </a:r>
                      <a:r>
                        <a:rPr b="0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instanc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0..*</a:t>
                      </a:r>
                      <a:r>
                        <a:rPr b="0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 or  </a:t>
                      </a: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no limit on the number of instances (including none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exactly one instance (the defaul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1..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at least one in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Class diagram"/>
          <p:cNvPicPr/>
          <p:nvPr/>
        </p:nvPicPr>
        <p:blipFill>
          <a:blip r:embed="rId1"/>
          <a:stretch/>
        </p:blipFill>
        <p:spPr>
          <a:xfrm>
            <a:off x="1295280" y="1066680"/>
            <a:ext cx="7359840" cy="5251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47920" y="0"/>
            <a:ext cx="67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of identifying Class Multiplicit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s an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gital Sound Recorder Case Study Requiremen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738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ound Record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sis Level Class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a Design Level Class Diagram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codeproject.com/library/WinSNMPWrapper.asp?df=100&amp;forumid=216441&amp;exp=0&amp;select=12592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of Software Architecture Using UML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CONTROL SYSTEM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15328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equirements Model and the Analysis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267080"/>
            <a:ext cx="23623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03848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2362320"/>
            <a:ext cx="236196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213372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32320" y="2631960"/>
            <a:ext cx="26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Diagram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ystem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3720" y="4419720"/>
            <a:ext cx="291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ass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tate Diagram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d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(The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1000" y="2251080"/>
            <a:ext cx="19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8400" y="4156200"/>
            <a:ext cx="17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3505320"/>
            <a:ext cx="0" cy="60948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4724280"/>
            <a:ext cx="3049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5105520"/>
            <a:ext cx="22860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mple Example of Software Architecture Using UML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CONTROL SYSTEM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15364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4724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86040" y="0"/>
            <a:ext cx="703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uto Cruis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Auto Cruise Contro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Monito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Auto Cruise Contro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Monito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ic Model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world entity type about which information is st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a collection of identical objects (instances)–Described by means of attributes (data i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operations to access data maintained by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nstance can be uniquely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 betwee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/ 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 / Spec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at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the static structure of the log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classes, class hierarchies using packages, classes, and their relationship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ve in three phases the conceptual phase, the analysis phase, and the design p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ceptual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conceptual phase, classes are defined based on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found in the problem domain descriptions (based on the objects identified in step 6 in the Requirements Elicitation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ext class diagram is defined first, where the system under development is represented by one package and external classes representing the ac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ext Class Diagram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the Boundary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438280"/>
            <a:ext cx="144756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external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581280"/>
            <a:ext cx="23623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u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35268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767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286000"/>
            <a:ext cx="6094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819520"/>
            <a:ext cx="167652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external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590920"/>
            <a:ext cx="83844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15000" y="32763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6080" y="5181480"/>
            <a:ext cx="77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the classes of the external input/output devic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ctors (users, other systems, etc.) and the system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4038480"/>
            <a:ext cx="144792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external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86200"/>
            <a:ext cx="6094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666880" y="41907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ceptual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package is defined by a diagram representing the main classes and interface classes to external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ubsystem is represented by a class diagram defining the classes of objects needed to realize the use cases defined in the use case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words 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&gt;&gt; or &lt;&lt;actor&gt;&gt; are used to specify external classes or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of external packages should reflective of the classes defined in the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ceptual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system classes  as Interface objects, Monitors objects, controllers object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352680"/>
            <a:ext cx="167616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200400"/>
            <a:ext cx="8380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895480"/>
            <a:ext cx="1905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Interface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_de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743200"/>
            <a:ext cx="121932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8098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352680"/>
            <a:ext cx="13716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200400"/>
            <a:ext cx="6858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181480"/>
            <a:ext cx="2286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Interface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_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5029200"/>
            <a:ext cx="10666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434340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Preferred Customer</dc:creator>
  <dc:description/>
  <dc:language>en-US</dc:language>
  <cp:lastModifiedBy>Ammar</cp:lastModifiedBy>
  <cp:lastPrinted>1996-08-19T15:43:24Z</cp:lastPrinted>
  <dcterms:modified xsi:type="dcterms:W3CDTF">2008-09-04T19:22:16Z</dcterms:modified>
  <cp:revision>208</cp:revision>
  <dc:subject/>
  <dc:title>Training</dc:title>
</cp:coreProperties>
</file>